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671F1-36A6-4FEE-BDB9-5951F07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37E26-EF61-49E7-9F76-2F98AE18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F75FF-07F0-40E9-A432-62AE9838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55BD5-44A2-4E22-9846-0346CDE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101F1-74B4-4F9C-868C-DFF64974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F04A7-B68D-4391-BA14-982C2B1D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DA898-4AD5-40C5-AB22-9AA1087C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32DCE-5E57-4154-8A5C-1B334056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94CE5-301C-4A0B-8CD7-C58DF2B8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E94-1F15-43BD-9EB4-4C45ECE9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1D1-AF54-493D-8DC3-B2C72C90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9A7-0C89-495F-B041-4E406537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F64-B566-4C0F-A5B4-549A78B2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A2B-BC93-4E50-9B53-339ED459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A8C-2794-42DE-A92E-28B94044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EF1-AF89-471E-AAB4-C99939A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2B1-8ED7-439F-B3A2-083F6BF9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CB5-C795-4F2F-887D-1FD27FD2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D63-9F93-46B8-93D8-F572BE47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5FD-4663-4E86-B61D-185DB32A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394-E9AE-4164-9292-8334DF1F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2581-33AA-45C5-84EE-7A1DEBAE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6F75-DB94-4776-A4A9-8E917E2C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D946-15C2-4F99-8A03-1CC10C7D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5320-917B-432E-ABFD-E4CA6847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8393-A86D-4282-B3B0-E9002E97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1B48-8B45-445A-A58C-42ACC444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0E4-CC2E-4468-A476-BAFB747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5C34-4382-4AB9-A69D-47DAFE0F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DD6C-4EE4-4157-A0C1-F4C69211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D966-92F3-4E02-8A50-121E1A5D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4383-6882-4F9C-9F4C-9F7A5F66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2C52-D3DD-4667-AEE4-020A788F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0E9F-D592-40AD-99DE-6B41E7BD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A73C6-6805-4056-B2BF-F0A22422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BDE7-0122-4A2B-B8F1-D3F711B2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2C98A-786F-4F98-A517-029D2543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3E12-FB4A-4948-9E9F-DAB6B268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C146-3EFA-4EDA-866A-CEFA961A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09E6-D2F8-4B13-B41D-72D2ADE2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901F-5329-4292-BD8F-CCE03D04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05884-32E3-4300-ADE7-940635D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EAA3-AE53-4053-A997-70694B45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96B7-503C-4F0B-B716-32ECAB8D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D060-88A9-45E4-B0AB-E5045F3E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E9B1-CEE2-4E1C-9864-2C5DF17A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92FE-B8E8-4846-B3BA-C470C193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F0FCD-AF70-4E1D-8545-7BBAC7BA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1FD7F-C6A3-4B15-953D-B9B067E0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2DBD-A6CD-442D-AB4C-6CD445EB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8B93-372D-4408-869C-CA13174F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65B3F-A79E-44DD-9BCA-3072268C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E087-3527-46DD-B899-23C52EA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024D1-5266-4822-B305-F2068FE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A9B0A-EF0E-40FA-8E75-BDE138DB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910D-A169-4030-92EC-A03D26AC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ACAF6-826E-4121-8C50-AF87D153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CE0DF-597E-4314-A422-B4D1F9A6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D0B58-11B3-4397-AD42-D7817E42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25661-C3A0-4D9F-9356-9A16569D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B238-CA5E-43DA-B718-FBF7CF89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63339-A6BA-48BB-8D51-3C114D55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C91F-1854-4614-A213-99093B09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8B5B3-B54E-4906-B290-F0068F5F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6DB35-BA8D-41AF-9979-F7F48239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13930-34FB-4017-A304-AAF3F1EE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96C1-BEB7-43F4-B093-68EB7CF6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BD0FA-E0F9-4B67-873C-41FC039F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AD3A-0018-449F-BC71-2EE71C81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F620D-31A9-4D7B-873D-ACE20423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7C125-FFC9-424E-9217-47B1E7F2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39F5-1A6C-4E69-A1AB-6E328AEA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B0CE7-FC45-45E1-BFEC-E5B2B86E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37EC3-7071-4AA6-82A8-CC79439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37258-7805-4B80-AEC2-28504564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82BED-F0C5-4AA5-95EE-57F1E4C3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94D15-00EA-4AB0-A2C2-887204F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6EBB-0CE9-4A14-8D7A-4AA15DB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C4EE-62E6-4CE6-9FA0-ED9969ED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715D-A13A-4A65-BFBA-150C6B19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370B4-FA01-4CE6-9C74-CEC981F4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7149-11B2-4EAA-8BC2-0318794F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591CD-D41C-461B-A222-AF47C2DC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AFBF8-875B-4A33-9630-CE526214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4242-CFF7-4E4A-93DB-9EB70ED846AC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FB5A-C6D1-4156-8AA9-E8939509A343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9485-05FC-4BC3-AE38-378A1EF8A98E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6DE0-94D6-4AF5-B535-730567776A96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D16-9416-41A7-BFEA-4B5582084BD7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E218-7E7E-4368-B29A-5F152826EE80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4F0-784F-4888-B175-10ADA175AE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drive.google.com/drive/folders/1z8D9j-WhGOmC42-n-oJeVN1WS_szjAmh?usp=drive_link" TargetMode="External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3592440" y="724320"/>
            <a:ext cx="47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PENERIMAAN MAHASISWA B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JALUR MANDIRI TAHUN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ISI SURAK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1"/>
          <p:cNvSpPr/>
          <p:nvPr/>
        </p:nvSpPr>
        <p:spPr>
          <a:xfrm>
            <a:off x="4375080" y="2138400"/>
            <a:ext cx="657216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ama Peserta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ISN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Asal Sekolah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tle 1"/>
          <p:cNvSpPr/>
          <p:nvPr/>
        </p:nvSpPr>
        <p:spPr>
          <a:xfrm>
            <a:off x="1104840" y="2138400"/>
            <a:ext cx="2865600" cy="394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antumkan foto terbaru seluruh bada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82520" y="159840"/>
            <a:ext cx="619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REKAMAN VIDEO LANDSCAP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PENAMPILAN MENARI TUN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143160" y="5784480"/>
            <a:ext cx="63374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mbria"/>
                <a:ea typeface="Cambria"/>
              </a:rPr>
              <a:t>AKSES GOOGLE DRIVE WAJIB DIBUKA / Tidak Boleh Terkun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1774800" y="5370480"/>
            <a:ext cx="90741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drive.google.com/drive/folders/1z8D9j-WhGOmC42-n-oJeVN1WS_szjAmh?usp=drive_lin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1271520" y="1197000"/>
            <a:ext cx="10080720" cy="407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4494240" y="3137040"/>
            <a:ext cx="32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D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2"/>
          <p:cNvSpPr/>
          <p:nvPr/>
        </p:nvSpPr>
        <p:spPr>
          <a:xfrm>
            <a:off x="4494240" y="3013200"/>
            <a:ext cx="32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Surat Pernyata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Orisinalitas Data/Dok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NIKMATUZ ZUHRA AINY</cp:lastModifiedBy>
  <dcterms:modified xsi:type="dcterms:W3CDTF">2025-05-27T04:33:00Z</dcterms:modified>
  <cp:revision>41</cp:revision>
  <dc:subject/>
  <dc:title>Slide 1</dc:title>
</cp:coreProperties>
</file>